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-did-it.wav" ContentType="audio/x-wav"/>
  <Override PartName="/ppt/media/image7.png" ContentType="image/png"/>
  <Override PartName="/ppt/media/delcious2.wav" ContentType="audio/x-wav"/>
  <Override PartName="/ppt/media/image1.jpeg" ContentType="image/jpeg"/>
  <Override PartName="/ppt/media/somewhere.wav" ContentType="audio/x-wav"/>
  <Override PartName="/ppt/media/image6.png" ContentType="image/png"/>
  <Override PartName="/ppt/media/superb.wav" ContentType="audio/x-wav"/>
  <Override PartName="/ppt/media/image10.png" ContentType="image/png"/>
  <Override PartName="/ppt/media/image5.png" ContentType="image/png"/>
  <Override PartName="/ppt/media/image11.jpeg" ContentType="image/jpeg"/>
  <Override PartName="/ppt/media/voltage.wav" ContentType="audio/x-wav"/>
  <Override PartName="/ppt/media/boyohboy.wav" ContentType="audio/x-wav"/>
  <Override PartName="/ppt/media/image9.gif" ContentType="image/gif"/>
  <Override PartName="/ppt/media/laser.wav" ContentType="audio/x-wav"/>
  <Override PartName="/ppt/media/shhh.wav" ContentType="audio/x-wav"/>
  <Override PartName="/ppt/media/image4.jpeg" ContentType="image/jpeg"/>
  <Override PartName="/ppt/media/image2.png" ContentType="image/png"/>
  <Override PartName="/ppt/media/image3.png" ContentType="image/png"/>
  <Override PartName="/ppt/media/fractured_fairy_tales.wav" ContentType="audio/x-wav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9E2-7B31-4AFF-9F1E-3AE3CD47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5D4-5C40-4494-90A0-936D3ABC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9DE-B7F0-4541-AFD1-E843D108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0DC-F5CD-4346-B907-5C742D68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0E1A-2462-4C79-BF74-90424BC9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6BE-4758-4526-ADFB-8EB93B58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DDE-8E36-47E9-9497-E51B6839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A358-C4B6-48DC-9637-444A0377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85F-8D53-4443-9280-547D3828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A9A-7702-42B6-AC2A-4F4260BF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B520-756C-453B-AB67-6A7CA477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EB9-62DC-4E01-B19C-2D8E6F82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EF5B-030E-4739-9BA7-8B0A82BF1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i-did-it.wav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audio" Target="../media/shhh.wav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audio" Target="../media/somewhere.wav"/><Relationship Id="rId19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superb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delcious2.wav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boyohboy.wav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fractured_fairy_tales.wav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48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urtle’s Race With Beaver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d Wal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 Joanne Whit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6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67080" y="290520"/>
            <a:ext cx="487692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0" y="380880"/>
            <a:ext cx="6477120" cy="3079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0880" y="4343400"/>
            <a:ext cx="8305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The turtle walked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toward  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the lak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62120" y="2362320"/>
            <a:ext cx="1676160" cy="14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5257800"/>
            <a:ext cx="83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didn’t say a     word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33720" y="533520"/>
            <a:ext cx="4800600" cy="4122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257800" y="5410080"/>
            <a:ext cx="3048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525780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didn’t say a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word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133720" y="533520"/>
            <a:ext cx="4800600" cy="41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487692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The bird flew   above      the tree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643960" cy="1981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38760" y="2857680"/>
            <a:ext cx="126648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962520" y="243828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952880" y="228600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943600" y="259092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2666880" y="259092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1295280" y="266688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2390760" y="327672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4952880" y="335268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3657600" y="358128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1371600" y="350532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0" y="259092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457200" y="335268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5"/>
          <a:stretch/>
        </p:blipFill>
        <p:spPr>
          <a:xfrm>
            <a:off x="6781680" y="228600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6"/>
          <a:stretch/>
        </p:blipFill>
        <p:spPr>
          <a:xfrm>
            <a:off x="6324480" y="342900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7"/>
          <a:stretch/>
        </p:blipFill>
        <p:spPr>
          <a:xfrm>
            <a:off x="7315200" y="3048120"/>
            <a:ext cx="126684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257800" y="4952880"/>
            <a:ext cx="3657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4572000"/>
            <a:ext cx="8839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The bird flew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above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    the tree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643960" cy="1981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38760" y="2857680"/>
            <a:ext cx="126648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962520" y="243828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952880" y="228600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5943600" y="259092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2666880" y="259092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1295280" y="266688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2390760" y="327672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4952880" y="335268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3657600" y="358128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1371600" y="350532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3"/>
          <a:stretch/>
        </p:blipFill>
        <p:spPr>
          <a:xfrm>
            <a:off x="0" y="259092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457200" y="335268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5"/>
          <a:stretch/>
        </p:blipFill>
        <p:spPr>
          <a:xfrm>
            <a:off x="6781680" y="228600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6"/>
          <a:stretch/>
        </p:blipFill>
        <p:spPr>
          <a:xfrm>
            <a:off x="6324480" y="342900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7"/>
          <a:stretch/>
        </p:blipFill>
        <p:spPr>
          <a:xfrm>
            <a:off x="7315200" y="3048120"/>
            <a:ext cx="12668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533520"/>
            <a:ext cx="8381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ook at the word carefully as it flashes on the screen and then we will spell it togeth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1676520"/>
            <a:ext cx="8381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1676520"/>
            <a:ext cx="8381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1676520"/>
            <a:ext cx="8381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whole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1676520"/>
            <a:ext cx="8381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toward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09680"/>
            <a:ext cx="9144000" cy="62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ant the words one time as they app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owar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g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or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ho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bo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noug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676520"/>
            <a:ext cx="8381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1676520"/>
            <a:ext cx="8381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ago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5105520"/>
            <a:ext cx="1447920" cy="1342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010280" y="1219320"/>
            <a:ext cx="1638360" cy="1904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9480" y="838080"/>
            <a:ext cx="4800600" cy="3429000"/>
          </a:xfrm>
          <a:prstGeom prst="wedgeEllipseCallout">
            <a:avLst>
              <a:gd name="adj1" fmla="val 106018"/>
              <a:gd name="adj2" fmla="val -190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295280"/>
            <a:ext cx="327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Lady, didn’t the class do a superb jo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4495680"/>
            <a:ext cx="5638680" cy="1600200"/>
          </a:xfrm>
          <a:prstGeom prst="wedgeEllipseCallout">
            <a:avLst>
              <a:gd name="adj1" fmla="val -61907"/>
              <a:gd name="adj2" fmla="val 11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48769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y sure did, Tram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666880" y="228600"/>
            <a:ext cx="3657600" cy="3389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44956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can’t believe I ate the whole       cak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5562720"/>
            <a:ext cx="3809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66880" y="420840"/>
            <a:ext cx="3657600" cy="3389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4114800"/>
            <a:ext cx="7848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can’t believe I ate the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whole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cak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274320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George Washington chopped down a cherry tree a long time ago    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733920" y="152280"/>
            <a:ext cx="2004840" cy="2487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66880" y="5562720"/>
            <a:ext cx="38102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2743200"/>
            <a:ext cx="78483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George Washington chopped down a cherry tree a long time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ago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733920" y="152280"/>
            <a:ext cx="2004840" cy="24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44197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think you have enough        doll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6858000" cy="3098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19320" y="5486400"/>
            <a:ext cx="46479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4191120"/>
            <a:ext cx="70866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think you have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enough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doll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6858000" cy="30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0" y="380880"/>
            <a:ext cx="6477120" cy="3079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434340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The turtle walked toward        the lak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62120" y="2362320"/>
            <a:ext cx="1676160" cy="1488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5334120"/>
            <a:ext cx="4267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8:15:25Z</dcterms:created>
  <dc:creator>default</dc:creator>
  <dc:description/>
  <dc:language>en-US</dc:language>
  <cp:lastModifiedBy>default</cp:lastModifiedBy>
  <dcterms:modified xsi:type="dcterms:W3CDTF">2007-10-06T21:40:13Z</dcterms:modified>
  <cp:revision>5</cp:revision>
  <dc:subject/>
  <dc:title>Turtle’s Race With Beaver Word Wall Words</dc:title>
</cp:coreProperties>
</file>